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3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4.jpeg" ContentType="image/jpeg"/>
  <Override PartName="/ppt/media/image23.jpeg" ContentType="image/jpeg"/>
  <Override PartName="/ppt/media/image12.png" ContentType="image/png"/>
  <Override PartName="/ppt/media/image21.png" ContentType="image/png"/>
  <Override PartName="/ppt/media/image19.png" ContentType="image/png"/>
  <Override PartName="/ppt/media/image20.jpeg" ContentType="image/jpeg"/>
  <Override PartName="/ppt/media/image28.jpeg" ContentType="image/jpeg"/>
  <Override PartName="/ppt/media/image18.png" ContentType="image/png"/>
  <Override PartName="/ppt/media/image6.jpeg" ContentType="image/jpeg"/>
  <Override PartName="/ppt/media/image22.jpeg" ContentType="image/jpeg"/>
  <Override PartName="/ppt/media/image9.png" ContentType="image/png"/>
  <Override PartName="/ppt/media/image39.png" ContentType="image/png"/>
  <Override PartName="/ppt/media/image38.png" ContentType="image/png"/>
  <Override PartName="/ppt/media/image8.png" ContentType="image/png"/>
  <Override PartName="/ppt/media/image7.png" ContentType="image/png"/>
  <Override PartName="/ppt/media/image37.png" ContentType="image/png"/>
  <Override PartName="/ppt/media/image27.jpeg" ContentType="image/jpeg"/>
  <Override PartName="/ppt/media/image10.png" ContentType="image/png"/>
  <Override PartName="/ppt/media/image30.png" ContentType="image/png"/>
  <Override PartName="/ppt/media/image11.png" ContentType="image/png"/>
  <Override PartName="/ppt/media/image35.png" ContentType="image/png"/>
  <Override PartName="/ppt/media/image5.jpeg" ContentType="image/jpeg"/>
  <Override PartName="/ppt/media/image26.jpeg" ContentType="image/jpeg"/>
  <Override PartName="/ppt/media/image36.png" ContentType="image/png"/>
  <Override PartName="/ppt/media/image13.jpeg" ContentType="image/jpeg"/>
  <Override PartName="/ppt/media/image34.png" ContentType="image/png"/>
  <Override PartName="/ppt/media/image4.png" ContentType="image/png"/>
  <Override PartName="/ppt/media/image33.png" ContentType="image/png"/>
  <Override PartName="/ppt/media/image3.png" ContentType="image/png"/>
  <Override PartName="/ppt/media/image32.png" ContentType="image/png"/>
  <Override PartName="/ppt/media/image2.png" ContentType="image/png"/>
  <Override PartName="/ppt/media/image25.jpeg" ContentType="image/jpeg"/>
  <Override PartName="/ppt/media/image31.png" ContentType="image/png"/>
  <Override PartName="/ppt/media/image1.png" ContentType="image/png"/>
  <Override PartName="/ppt/media/image14.png" ContentType="image/png"/>
  <Override PartName="/ppt/media/image15.jpeg" ContentType="image/jpeg"/>
  <Override PartName="/ppt/media/image16.jpeg" ContentType="image/jpeg"/>
  <Override PartName="/ppt/media/image17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</p:sldIdLst>
  <p:sldSz cx="9144000" cy="6858000"/>
  <p:notesSz cx="6858000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6858000" cy="975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25"/>
          </p:nvPr>
        </p:nvSpPr>
        <p:spPr>
          <a:xfrm>
            <a:off x="3882600" y="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Img"/>
          </p:nvPr>
        </p:nvSpPr>
        <p:spPr>
          <a:xfrm>
            <a:off x="992160" y="731520"/>
            <a:ext cx="4872240" cy="3655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26"/>
          </p:nvPr>
        </p:nvSpPr>
        <p:spPr>
          <a:xfrm>
            <a:off x="-3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27"/>
          </p:nvPr>
        </p:nvSpPr>
        <p:spPr>
          <a:xfrm>
            <a:off x="388260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7B1FE-EF84-4173-81CE-F846CCDB3BB0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992160" y="731880"/>
            <a:ext cx="4872240" cy="36558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3" name="슬라이드 번호 개체 틀 3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5CC03-9157-421D-9202-470D6709A9AF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151E6-9541-4969-BEE1-835767DDAECA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5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9AFA9-815C-4C9B-834A-784D62B60284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3DF87-FA9B-4219-A138-C6F857B9C05F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1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2A742-8CDE-4E87-9A28-13E11050DE44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4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2DB19-5154-4857-B34E-05ADC8D5776B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7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5273C-8243-46ED-B46A-4658EF181B2A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0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8E3F1-EB8A-4F9C-9EB5-F8A62FF40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9E53D-7549-445F-82E1-CEE58B68C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8E1EE-B860-44D8-BC47-55C8D5A91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DE15B-8801-49A8-87AA-C78A2BE55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0A0D5-C366-4163-8EE5-CEB3B1B66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65645-97CE-41D1-885C-D752397C2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06193-B28A-47D1-B55E-656B8F842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858BF-4CCB-4AF9-B62C-C46E3D4D8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F7BFC-51CE-4B67-B42E-B613DD92D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6B036-249A-4681-AD7E-0743D9956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600E9-9A41-4B33-947C-A2EEBD8CE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BF85E-F892-429C-83F8-5517C9148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AD7DB-DE92-43AE-AA31-C50E49C9F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422CF-5155-4EE0-9406-9B25B2D2E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4F03F-EF02-4A69-B82D-79897A77E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1F5CD-808B-4950-B8A4-09174DFA8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DFB11-3499-4B95-A66B-320F6CF45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1D562B-77C8-4C6D-AC64-F3342B644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BC348D-434D-4066-BE54-03A6E4FE4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024CD4-4F40-4EE6-B62F-E238658A4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55B1EC-45E3-4FEA-9C54-59019181C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9075A8-4625-44BF-9EB8-EF54C45D9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C40BA-EF26-4B03-B4CE-F0C6D43A5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7CD213-5E28-41B0-8561-3D5162988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576BB4-E3A2-45CA-A218-D79C1CFFC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D6ABEB-4306-4787-BA45-4E4A8B7D9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8C81A5-5350-435C-B88F-F83601AC9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AAA060-5801-4706-AD9E-0A10722D2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34673A-D03E-4C45-98DA-8DD40A530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65F14A-69ED-4305-AA84-F7FBCA5FB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1578FC-59D6-49F5-8426-C2C0ECBB4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BF6FA6-6F20-4EBC-8985-0DC096E90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83D9EE-7490-42FC-AB35-C7D455081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874A1-A806-4524-A6CF-76987CF4B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66C363-B553-4ABA-9E32-F2C8D7154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BBFE0B-A7F2-43B4-B108-D3A95900C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8C4CEE-BB69-4EE3-BD8E-338328ABA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D7BF05-7F35-45CB-9CCB-1B48406CF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3232E0-7EEC-4739-80D7-95833A483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F5C100-DA86-488F-8FD5-AEA104568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87A756-48F0-4621-A291-2DF9CADE5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9F896E-54E8-43B8-B078-67C94833B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5C98EE-0CE0-4E20-940B-16F2B5612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E41A60-8FEC-485A-B944-1D18F13F2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D9D52-1A58-4DD3-B20F-31B531147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47CB31-B466-467F-B2B3-02D14D039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EC6312-38CB-4D9E-A9AB-B7E781360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E0C2B4-3D85-4BDC-B332-5E8199E57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C16509-5892-4737-9C1C-EE2F7509A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A14493-663F-4783-8295-D7B5181E9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ECF5B9-80BB-479A-8EE5-85F8E7837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152862-4881-4576-905C-DA2E9F66F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06F8C7-8777-4084-AD14-5D4289D6C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8653F5-CBBA-4144-BE0C-95EF03632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CF0EA3-E541-4A01-B419-C986424BA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9F202-5F42-4B7D-9751-F540E4BF5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486D0A-E5EA-49C9-ADC7-ADCE33D78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626956-7AB9-4D99-A5DC-8536B2C3D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A9B709-5FC0-423D-92A5-C2BB819D8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5ADFFD-5DA9-4533-84ED-3D69E8ADE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4E619D-86C5-4432-828F-A5D33F592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7E7CA6-6C4C-4F63-9E86-84B148806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DB1B87-705B-49EB-A343-F33E73B58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EE60DE-2251-430A-B173-97F0D5705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846692-1B81-48E2-BA8B-0D5200EBA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1FC757-DBEF-45F7-887F-F50E9ADCB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93ABC-3CF6-4A38-AE53-B208D0E52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28583F-A068-4B08-A36B-EF0EC0001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8329E2-2C59-40C6-9E59-9A41E2231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4D7487-B1DE-4726-8570-429CBE789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DC2D33-34AF-4588-9CF0-34B77E5BA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8311A7-9674-42FF-852C-F164F924B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367E00-94DA-4472-BBB0-0BA0D3AAB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EB0B2D-F5CF-4F01-AC5B-DC2DB577F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161ED3-C25F-44B0-9D70-EEEE3879C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0CB965-11C2-46CC-9C45-DE66D0B59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DABB93-BB6F-483B-9355-F80589981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25510-743F-4C32-B759-8967778B5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ACA8B5-E5DC-4AF9-A12B-4CF907483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B9EBAF-FD37-43FD-B266-EAF8E7709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52E1F8-0F9A-4F8D-AB1A-37E8D652F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19F901-3D10-4D17-8017-2E619E209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79E811-609E-4CD0-9AC6-80C50929E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1DFCFB-659C-4E3A-910B-65F1E49A5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748CE2-1250-4A65-8E98-96567732A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6E7229-3F1B-4EA1-B52A-93CA8FC77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7F3994-B970-4142-B5AB-DDC5640DC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2174EB-1CEF-40C2-9F40-3F77C3EF1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2B148-38DF-459B-B10B-9EC363A5B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654861-2C9B-4C63-B4B2-BC8D2E603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26CD3D-FF8F-41CD-8AD1-CAD134E67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17B0DF-34A2-4113-90BF-42C293077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E415FD-C277-4172-9AEA-94EB8A2AC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E6FBC7-CFC0-4E7C-8FE3-5DAA4EE0E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B2D6B5-A2FB-4E48-B73B-2352C9F41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C1677F-6257-4DDE-9EC2-91147839F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자유형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자유형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" name="직각 삼각형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직각 삼각형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5" name="직선 연결선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BC36A-2C8E-4978-BD4F-2F15630619A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직각 삼각형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8" name="그룹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자유형 16"/>
            <p:cNvSpPr/>
            <p:nvPr/>
          </p:nvSpPr>
          <p:spPr>
            <a:xfrm>
              <a:off x="1693440" y="4952880"/>
              <a:ext cx="7444440" cy="48600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0" name="자유형 18"/>
            <p:cNvSpPr/>
            <p:nvPr/>
          </p:nvSpPr>
          <p:spPr>
            <a:xfrm>
              <a:off x="45360" y="5236200"/>
              <a:ext cx="9092880" cy="78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51" name="자유형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자유형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pic>
          <p:nvPicPr>
            <p:cNvPr id="54" name="직선 연결선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6A77B-1A29-46D0-B832-C92C4162979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자유형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자유형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98" name="직각 삼각형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직각 삼각형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101" name="직선 연결선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갈매기형 수장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갈매기형 수장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48E0D-DF5C-400A-9EEF-E6495985BDC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자유형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자유형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7" name="직각 삼각형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직각 삼각형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150" name="직선 연결선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37A60-E4B1-4911-B3E4-CFEB2E1B431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2306F-4C35-42D8-ADA3-D4E1F0A4B39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자유형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자유형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35" name="직각 삼각형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직각 삼각형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238" name="직선 연결선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8F2F4-A7FD-41F7-BB17-E1BA008BD35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22421-5D2C-478B-AF78-40BD8A6A867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자유형 10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2" name="자유형 15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323" name="직각 삼각형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직각 삼각형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326" name="직선 연결선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갈매기형 수장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8" name="갈매기형 수장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EDC4B-970F-47E8-9731-164E6CC8E05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Rectangle 2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137440" cy="184752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685440" y="3886200"/>
            <a:ext cx="8226360" cy="17524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64646"/>
                </a:solidFill>
                <a:latin typeface="Lucida Sans Unicode"/>
              </a:rPr>
              <a:t>                                                  </a:t>
            </a:r>
            <a:r>
              <a:rPr b="0" lang="en-US" sz="2200" spc="-1" strike="noStrike">
                <a:solidFill>
                  <a:srgbClr val="464646"/>
                </a:solidFill>
                <a:latin typeface="HY강B"/>
                <a:ea typeface="HY강B"/>
              </a:rPr>
              <a:t>5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조 김보기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                                                    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조원준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                                                     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강경구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                                                     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하수은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                                                     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신한별 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 txBox="1"/>
          <p:nvPr/>
        </p:nvSpPr>
        <p:spPr>
          <a:xfrm>
            <a:off x="457200" y="1241280"/>
            <a:ext cx="8229600" cy="476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발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톨루엔 성분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포름알데히드 함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벤젠의 수소원자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개를 메틸기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基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로 치환한 화합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무색의 액체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석탄을 건류하여 얻은 경유를 황산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으로 씻은 다음 정류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精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)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하여 만듬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피부 보호막 녹이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 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피부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두통 일으킴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중추신경 장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혼수상태 등 유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0" name="Rectangle 2" descr=""/>
          <p:cNvPicPr/>
          <p:nvPr/>
        </p:nvPicPr>
        <p:blipFill>
          <a:blip r:embed="rId1"/>
          <a:stretch/>
        </p:blipFill>
        <p:spPr>
          <a:xfrm>
            <a:off x="360360" y="268200"/>
            <a:ext cx="833292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 txBox="1"/>
          <p:nvPr/>
        </p:nvSpPr>
        <p:spPr>
          <a:xfrm>
            <a:off x="272880" y="1323720"/>
            <a:ext cx="8413920" cy="480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포름알데히드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함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메탄올을 산화시켜 얻는 기체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로자극적인  냄새 남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환원성이 강함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알레르기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접촉성 피부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두드러기 등 일으킴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결막에 큰 자극줌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2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 txBox="1"/>
          <p:nvPr/>
        </p:nvSpPr>
        <p:spPr>
          <a:xfrm>
            <a:off x="457200" y="122868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접착부분이 화학성분으로 이루어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짐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  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포름알데히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(Formaldehyde)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검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눈두덩 피부를 자극하여 염증이 생기거나  색소침착이 생겨 단단하게 만듬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장기간 사용할 경우 피부가 늘어지게 됨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려움증으로 눈이 빨갛게 충혈되는 현상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발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4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가발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고정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가발 망의 실리콘 테두리를 이용하여 두피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에 고정하는 방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탈 부착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의료용 양면 테이프를 이용하여 고정하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는 방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혼합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특수 제작된 패치를 이용하여 자신의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모발이나 두피에 부착하는 다기능 부착공법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6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 txBox="1"/>
          <p:nvPr/>
        </p:nvSpPr>
        <p:spPr>
          <a:xfrm>
            <a:off x="457200" y="2101320"/>
            <a:ext cx="4038480" cy="40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408" name="Picture 5" descr="http://cfs12.blog.daum.net/original/16/blog/2008/02/19/12/11/47ba48c55d83c&amp;filename=DSC00419.JPG"/>
          <p:cNvPicPr/>
          <p:nvPr/>
        </p:nvPicPr>
        <p:blipFill>
          <a:blip r:embed="rId1"/>
          <a:stretch/>
        </p:blipFill>
        <p:spPr>
          <a:xfrm>
            <a:off x="4681440" y="1346040"/>
            <a:ext cx="3784680" cy="4534200"/>
          </a:xfrm>
          <a:prstGeom prst="rect">
            <a:avLst/>
          </a:prstGeom>
          <a:ln w="0">
            <a:noFill/>
          </a:ln>
        </p:spPr>
      </p:pic>
      <p:pic>
        <p:nvPicPr>
          <p:cNvPr id="409" name="제목 11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17" descr="5409209782"/>
          <p:cNvPicPr/>
          <p:nvPr/>
        </p:nvPicPr>
        <p:blipFill>
          <a:blip r:embed="rId3"/>
          <a:stretch/>
        </p:blipFill>
        <p:spPr>
          <a:xfrm>
            <a:off x="457200" y="1346040"/>
            <a:ext cx="4224240" cy="478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눈이 가늘고 좁은 경우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속눈썹길이 반으로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잘라 눈썹 끝에만 붙임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속 쌍꺼풀인 경우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속눈썹길이 반보다 길게 잘      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라 눈앞머리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1/3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띄우고 붙임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눈에 힘이 없고 라인이 분명 하지 않은 경우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부분속눈썹을 전체적으로 붙임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2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Picture 7" descr="1111"/>
          <p:cNvPicPr/>
          <p:nvPr/>
        </p:nvPicPr>
        <p:blipFill>
          <a:blip r:embed="rId1"/>
          <a:stretch/>
        </p:blipFill>
        <p:spPr>
          <a:xfrm>
            <a:off x="457200" y="1855800"/>
            <a:ext cx="3695760" cy="352116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9" descr="이미지 썸네일"/>
          <p:cNvPicPr/>
          <p:nvPr/>
        </p:nvPicPr>
        <p:blipFill>
          <a:blip r:embed="rId2"/>
          <a:stretch/>
        </p:blipFill>
        <p:spPr>
          <a:xfrm>
            <a:off x="4152960" y="1855800"/>
            <a:ext cx="4295880" cy="3521160"/>
          </a:xfrm>
          <a:prstGeom prst="rect">
            <a:avLst/>
          </a:prstGeom>
          <a:ln w="0">
            <a:noFill/>
          </a:ln>
        </p:spPr>
      </p:pic>
      <p:pic>
        <p:nvPicPr>
          <p:cNvPr id="415" name="Rectangle 5" descr=""/>
          <p:cNvPicPr/>
          <p:nvPr/>
        </p:nvPicPr>
        <p:blipFill>
          <a:blip r:embed="rId3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 txBox="1"/>
          <p:nvPr/>
        </p:nvSpPr>
        <p:spPr>
          <a:xfrm>
            <a:off x="457200" y="1599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7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18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19" name="Picture 3" descr="C:\Documents and Settings\user\바탕 화면\1.JPG"/>
          <p:cNvPicPr/>
          <p:nvPr/>
        </p:nvPicPr>
        <p:blipFill>
          <a:blip r:embed="rId2"/>
          <a:stretch/>
        </p:blipFill>
        <p:spPr>
          <a:xfrm>
            <a:off x="1986120" y="2219400"/>
            <a:ext cx="5171760" cy="161604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4" descr="C:\Documents and Settings\user\바탕 화면\2.JPG"/>
          <p:cNvPicPr/>
          <p:nvPr/>
        </p:nvPicPr>
        <p:blipFill>
          <a:blip r:embed="rId3"/>
          <a:stretch/>
        </p:blipFill>
        <p:spPr>
          <a:xfrm>
            <a:off x="1986120" y="3835440"/>
            <a:ext cx="5171760" cy="164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1" descr="C:\Documents and Settings\user\바탕 화면\3.JPG"/>
          <p:cNvPicPr/>
          <p:nvPr/>
        </p:nvPicPr>
        <p:blipFill>
          <a:blip r:embed="rId2"/>
          <a:stretch/>
        </p:blipFill>
        <p:spPr>
          <a:xfrm>
            <a:off x="457200" y="1663560"/>
            <a:ext cx="5229360" cy="144936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2" descr="C:\Documents and Settings\user\바탕 화면\4.JPG"/>
          <p:cNvPicPr/>
          <p:nvPr/>
        </p:nvPicPr>
        <p:blipFill>
          <a:blip r:embed="rId3"/>
          <a:stretch/>
        </p:blipFill>
        <p:spPr>
          <a:xfrm>
            <a:off x="2335320" y="1663560"/>
            <a:ext cx="5200560" cy="1449360"/>
          </a:xfrm>
          <a:prstGeom prst="rect">
            <a:avLst/>
          </a:prstGeom>
          <a:ln w="0">
            <a:noFill/>
          </a:ln>
        </p:spPr>
      </p:pic>
      <p:sp>
        <p:nvSpPr>
          <p:cNvPr id="424" name="TextBox 6"/>
          <p:cNvSpPr/>
          <p:nvPr/>
        </p:nvSpPr>
        <p:spPr>
          <a:xfrm>
            <a:off x="457200" y="3421080"/>
            <a:ext cx="82296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붙일 위치를 깨끗이 닦아 쌍 커풀 라인 위치 잡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2. Y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자 스틱을 투명테이프에 반 정도 붙여 테이프를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살짝</a:t>
            </a: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눌러줌</a:t>
            </a: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3. Y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자 스틱으로 쌍 커풀 테이프를 눌러 라인 형성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하여 안정이 되게 함</a:t>
            </a: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"/>
          <p:cNvSpPr txBox="1"/>
          <p:nvPr/>
        </p:nvSpPr>
        <p:spPr>
          <a:xfrm>
            <a:off x="177480" y="1187280"/>
            <a:ext cx="8761320" cy="481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1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클립으로 탈착 할수 있는 형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필요와 사용목적에 따라 클립을 사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1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머리핀을 이용한 인조가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머리 치장을 위해 모발 염색을 해야하는 불편함과 모발손상을 없애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모발 어느 위치에도 간편하게 다양한 칼라의 머리카락을 위치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개성 있게 표현할 수 있음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6" name="제목 8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457200" y="1143000"/>
            <a:ext cx="40384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접착 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1.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미용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가발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인조속눈썹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아이참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1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이용 목적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2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종류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3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접착 성분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4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유해물질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5)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착용방법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과정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6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해결방안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Lucida Sans Unicode"/>
              </a:rPr>
              <a:t>               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648320" y="1143000"/>
            <a:ext cx="40384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2.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식품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: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푸드바인드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멜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    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라민파동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1)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피해사례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2)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해결방안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81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속눈썹연장세럼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자연성분인 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펩타이드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 주원료로 부작용없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효과가 확실하며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주 정도 사용으로 확실하게 달라진 속눈썹을 느낄 수 있음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펩타이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미노산의 중합체임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소수의 아미노산이 연결된 형태→ 펩티드많은 아미노산이 연결→단백질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8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피부가 쳐지는 경향이 있으므로 가능하면 사용을 자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매몰 법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절개 법 시술로 비용은 들지만 효과는 아이참 보다 배로 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0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 txBox="1"/>
          <p:nvPr/>
        </p:nvSpPr>
        <p:spPr>
          <a:xfrm>
            <a:off x="627120" y="2169720"/>
            <a:ext cx="8229600" cy="364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Lucida Sans Unicode"/>
              </a:rPr>
              <a:t>                               </a:t>
            </a:r>
            <a:endParaRPr b="0" lang="en-US" sz="5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ko-KR" sz="5400" spc="-1" strike="noStrike">
                <a:solidFill>
                  <a:srgbClr val="000000"/>
                </a:solidFill>
                <a:latin typeface="HY강B"/>
                <a:ea typeface="HY강B"/>
              </a:rPr>
              <a:t>푸드바인드</a:t>
            </a:r>
            <a:r>
              <a:rPr b="0" lang="en-US" sz="54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5400" spc="-1" strike="noStrike">
                <a:solidFill>
                  <a:srgbClr val="000000"/>
                </a:solidFill>
                <a:latin typeface="HY강B"/>
                <a:ea typeface="HY강B"/>
              </a:rPr>
              <a:t>멜라민파동</a:t>
            </a:r>
            <a:endParaRPr b="0" lang="en-US" sz="5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2" name="제목 2" descr=""/>
          <p:cNvPicPr/>
          <p:nvPr/>
        </p:nvPicPr>
        <p:blipFill>
          <a:blip r:embed="rId1"/>
          <a:stretch/>
        </p:blipFill>
        <p:spPr>
          <a:xfrm>
            <a:off x="622440" y="2724120"/>
            <a:ext cx="824040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Rectang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34" name="AutoShape 3"/>
          <p:cNvSpPr/>
          <p:nvPr/>
        </p:nvSpPr>
        <p:spPr>
          <a:xfrm>
            <a:off x="1143000" y="2825640"/>
            <a:ext cx="2765520" cy="2073240"/>
          </a:xfrm>
          <a:prstGeom prst="roundRect">
            <a:avLst>
              <a:gd name="adj" fmla="val 6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5" name="AutoShape 5"/>
          <p:cNvSpPr/>
          <p:nvPr/>
        </p:nvSpPr>
        <p:spPr>
          <a:xfrm>
            <a:off x="990720" y="2825640"/>
            <a:ext cx="2765160" cy="20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36" name="foodbind.avi" descr=""/>
          <p:cNvPicPr/>
          <p:nvPr/>
        </p:nvPicPr>
        <p:blipFill>
          <a:blip r:embed="rId2"/>
          <a:stretch/>
        </p:blipFill>
        <p:spPr>
          <a:xfrm>
            <a:off x="3048120" y="2600280"/>
            <a:ext cx="3047760" cy="228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1334" fill="hold"/>
                                        <p:tgtEl>
                                          <p:spTgt spid="4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435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435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4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" restart="whenNotActive" nodeType="interactiveSeq" fill="hold">
                <p:stCondLst>
                  <p:cond evt="onClick">
                    <p:tgtEl>
                      <p:spTgt spid="436"/>
                    </p:tgtEl>
                  </p:cond>
                </p:stCondLst>
                <p:childTnLst>
                  <p:par>
                    <p:cTn id="13" fill="hold">
                      <p:stCondLst>
                        <p:cond evt="onClick">
                          <p:tgtEl>
                            <p:spTgt spid="436"/>
                          </p:tgtEl>
                        </p:cond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6" dur="1" fill="hold"/>
                                        <p:tgtEl>
                                          <p:spTgt spid="4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Rectangle 1" descr=""/>
          <p:cNvPicPr/>
          <p:nvPr/>
        </p:nvPicPr>
        <p:blipFill>
          <a:blip r:embed="rId1"/>
          <a:stretch/>
        </p:blipFill>
        <p:spPr>
          <a:xfrm>
            <a:off x="195120" y="285840"/>
            <a:ext cx="8498160" cy="1098360"/>
          </a:xfrm>
          <a:prstGeom prst="rect">
            <a:avLst/>
          </a:prstGeom>
          <a:ln w="0">
            <a:noFill/>
          </a:ln>
        </p:spPr>
      </p:pic>
      <p:sp>
        <p:nvSpPr>
          <p:cNvPr id="438" name="PlaceHolder 1"/>
          <p:cNvSpPr>
            <a:spLocks noGrp="1"/>
          </p:cNvSpPr>
          <p:nvPr>
            <p:ph/>
          </p:nvPr>
        </p:nvSpPr>
        <p:spPr>
          <a:xfrm>
            <a:off x="457200" y="1604520"/>
            <a:ext cx="82281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계란흰자분말과감자전분등이 주원료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잘게 부숴진 고기를 결합시키는 용도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고가의 갈비를 정상적인방법으로 위생적으로 조리할때 사용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인체에는 무해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Rectang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40" name="PlaceHolder 1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해결방안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생갈비와 접착갈비 법적구분을 정확하게 제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집중단속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축산물가공처리 법과 시행규칙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농림부 고시 등 관계 법령을 수정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1" name="Rectang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42" name="AutoShape 3"/>
          <p:cNvSpPr/>
          <p:nvPr/>
        </p:nvSpPr>
        <p:spPr>
          <a:xfrm>
            <a:off x="1143000" y="2940120"/>
            <a:ext cx="2765520" cy="2073240"/>
          </a:xfrm>
          <a:prstGeom prst="roundRect">
            <a:avLst>
              <a:gd name="adj" fmla="val 6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3" name="AutoShape 5"/>
          <p:cNvSpPr/>
          <p:nvPr/>
        </p:nvSpPr>
        <p:spPr>
          <a:xfrm>
            <a:off x="1143000" y="2940120"/>
            <a:ext cx="2765520" cy="20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44" name="mel.avi" descr=""/>
          <p:cNvPicPr/>
          <p:nvPr/>
        </p:nvPicPr>
        <p:blipFill>
          <a:blip r:embed="rId2"/>
          <a:stretch/>
        </p:blipFill>
        <p:spPr>
          <a:xfrm>
            <a:off x="3048120" y="2600280"/>
            <a:ext cx="3047760" cy="228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" dur="39267" fill="hold"/>
                                        <p:tgtEl>
                                          <p:spTgt spid="4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" restart="whenNotActive" nodeType="interactiveSeq" fill="hold">
                <p:stCondLst>
                  <p:cond evt="onClick">
                    <p:tgtEl>
                      <p:spTgt spid="443"/>
                    </p:tgtEl>
                  </p:cond>
                </p:stCondLst>
                <p:childTnLst>
                  <p:par>
                    <p:cTn id="24" fill="hold">
                      <p:stCondLst>
                        <p:cond evt="onClick">
                          <p:tgtEl>
                            <p:spTgt spid="443"/>
                          </p:tgtEl>
                        </p:cond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7" dur="1" fill="hold"/>
                                        <p:tgtEl>
                                          <p:spTgt spid="4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" restart="whenNotActive" nodeType="interactiveSeq" fill="hold">
                <p:stCondLst>
                  <p:cond evt="onClick">
                    <p:tgtEl>
                      <p:spTgt spid="444"/>
                    </p:tgtEl>
                  </p:cond>
                </p:stCondLst>
                <p:childTnLst>
                  <p:par>
                    <p:cTn id="29" fill="hold">
                      <p:stCondLst>
                        <p:cond evt="onClick">
                          <p:tgtEl>
                            <p:spTgt spid="444"/>
                          </p:tgtEl>
                        </p:cond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2" dur="1" fill="hold"/>
                                        <p:tgtEl>
                                          <p:spTgt spid="4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5" name="Rectang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46" name="PlaceHolder 1"/>
          <p:cNvSpPr>
            <a:spLocks noGrp="1"/>
          </p:cNvSpPr>
          <p:nvPr>
            <p:ph/>
          </p:nvPr>
        </p:nvSpPr>
        <p:spPr>
          <a:xfrm>
            <a:off x="457200" y="1419120"/>
            <a:ext cx="8228160" cy="471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신장결석이나 신부전증 환자가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53,000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명이 발생하였고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이 중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12,800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명은 입원치료를 받고 있으며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4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명의 유아가 사망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멜라민은 우유에 첨가할 경우 단백질의 함유량을 실제보다 부풀릴 수 있기에 사용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중국산 식품에 대한 신뢰도 큰 타격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7" name="Rectangle 1" descr=""/>
          <p:cNvPicPr/>
          <p:nvPr/>
        </p:nvPicPr>
        <p:blipFill>
          <a:blip r:embed="rId1"/>
          <a:stretch/>
        </p:blipFill>
        <p:spPr>
          <a:xfrm>
            <a:off x="195120" y="285840"/>
            <a:ext cx="8498160" cy="1098360"/>
          </a:xfrm>
          <a:prstGeom prst="rect">
            <a:avLst/>
          </a:prstGeom>
          <a:ln w="0">
            <a:noFill/>
          </a:ln>
        </p:spPr>
      </p:pic>
      <p:sp>
        <p:nvSpPr>
          <p:cNvPr id="448" name="PlaceHolder 1"/>
          <p:cNvSpPr>
            <a:spLocks noGrp="1"/>
          </p:cNvSpPr>
          <p:nvPr>
            <p:ph/>
          </p:nvPr>
        </p:nvSpPr>
        <p:spPr>
          <a:xfrm>
            <a:off x="457200" y="1604520"/>
            <a:ext cx="82281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해결방안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정부가 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`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위해 요소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`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와 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`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품질 관리 요소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`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를 명확히 구분해 정책을 수립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집행 해야함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식품안전처와 같은 제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의 독립기구 설립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9" name="제목 3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089920" cy="1841400"/>
          </a:xfrm>
          <a:prstGeom prst="rect">
            <a:avLst/>
          </a:prstGeom>
          <a:ln w="0">
            <a:noFill/>
          </a:ln>
        </p:spPr>
      </p:pic>
      <p:sp>
        <p:nvSpPr>
          <p:cNvPr id="450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27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제목 4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089920" cy="1841400"/>
          </a:xfrm>
          <a:prstGeom prst="rect">
            <a:avLst/>
          </a:prstGeom>
          <a:ln w="0">
            <a:noFill/>
          </a:ln>
        </p:spPr>
      </p:pic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464646"/>
                </a:solidFill>
                <a:latin typeface="HY강B"/>
                <a:ea typeface="HY강B"/>
              </a:rPr>
              <a:t>가발</a:t>
            </a:r>
            <a:r>
              <a:rPr b="0" lang="en-US" sz="4000" spc="-1" strike="noStrike">
                <a:solidFill>
                  <a:srgbClr val="464646"/>
                </a:solidFill>
                <a:latin typeface="HY강B"/>
                <a:ea typeface="HY강B"/>
              </a:rPr>
              <a:t>,</a:t>
            </a:r>
            <a:r>
              <a:rPr b="0" lang="ko-KR" sz="4000" spc="-1" strike="noStrike">
                <a:solidFill>
                  <a:srgbClr val="464646"/>
                </a:solidFill>
                <a:latin typeface="HY강B"/>
                <a:ea typeface="HY강B"/>
              </a:rPr>
              <a:t>인조속눈썹</a:t>
            </a:r>
            <a:r>
              <a:rPr b="0" lang="en-US" sz="4000" spc="-1" strike="noStrike">
                <a:solidFill>
                  <a:srgbClr val="464646"/>
                </a:solidFill>
                <a:latin typeface="HY강B"/>
                <a:ea typeface="HY강B"/>
              </a:rPr>
              <a:t>,</a:t>
            </a:r>
            <a:r>
              <a:rPr b="0" lang="ko-KR" sz="4000" spc="-1" strike="noStrike">
                <a:solidFill>
                  <a:srgbClr val="464646"/>
                </a:solidFill>
                <a:latin typeface="HY강B"/>
                <a:ea typeface="HY강B"/>
              </a:rPr>
              <a:t>아이참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456840" y="1143000"/>
            <a:ext cx="8427960" cy="523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분장용이나 장식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무대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·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연예용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·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의례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·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법관용 등 특종 직업용 사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속눈썹숱이적어 마스카라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효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보지못하는사람위함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쌍커풀이 없거나 쌍커풀선이 약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사람들이 이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5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.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탈모용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전체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부분가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패션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악세서리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연극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마네킹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코스프레용가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의료용가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익스텐션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짧은머리를 긴머리로바꾸는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붙임머리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7" name="Rectangle 2" descr=""/>
          <p:cNvPicPr/>
          <p:nvPr/>
        </p:nvPicPr>
        <p:blipFill>
          <a:blip r:embed="rId1"/>
          <a:stretch/>
        </p:blipFill>
        <p:spPr>
          <a:xfrm>
            <a:off x="360360" y="268200"/>
            <a:ext cx="833292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형태별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눈썹의 양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길이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색상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심는형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눈썹의 숱 많이 표현 하고자       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하는부위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굵고 긴 형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굵고 짧은 형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얇고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긴 형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얇고 짧은 형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9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Picture 4" descr="접착제"/>
          <p:cNvPicPr/>
          <p:nvPr/>
        </p:nvPicPr>
        <p:blipFill>
          <a:blip r:embed="rId1"/>
          <a:stretch/>
        </p:blipFill>
        <p:spPr>
          <a:xfrm>
            <a:off x="763560" y="1600200"/>
            <a:ext cx="3398760" cy="4525920"/>
          </a:xfrm>
          <a:prstGeom prst="rect">
            <a:avLst/>
          </a:prstGeom>
          <a:ln w="0">
            <a:noFill/>
          </a:ln>
        </p:spPr>
      </p:pic>
      <p:sp>
        <p:nvSpPr>
          <p:cNvPr id="391" name=""/>
          <p:cNvSpPr txBox="1"/>
          <p:nvPr/>
        </p:nvSpPr>
        <p:spPr>
          <a:xfrm>
            <a:off x="4162320" y="1600200"/>
            <a:ext cx="4694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1.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가발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HY강B"/>
                <a:ea typeface="HY강B"/>
              </a:rPr>
              <a:t>: </a:t>
            </a:r>
            <a:r>
              <a:rPr b="0" lang="ko-KR" sz="3200" spc="-1" strike="noStrike" u="sng">
                <a:solidFill>
                  <a:srgbClr val="ffffff"/>
                </a:solidFill>
                <a:uFillTx/>
                <a:latin typeface="HY강B"/>
                <a:ea typeface="HY강B"/>
              </a:rPr>
              <a:t>노테이프본드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실리콘접착제로 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고정부착형가발에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사용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, 2-3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주이상의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강한접착력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92" name="제목 1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내용 개체 틀 10" descr="5482855381.jpg"/>
          <p:cNvPicPr/>
          <p:nvPr/>
        </p:nvPicPr>
        <p:blipFill>
          <a:blip r:embed="rId1"/>
          <a:stretch/>
        </p:blipFill>
        <p:spPr>
          <a:xfrm>
            <a:off x="846000" y="2033640"/>
            <a:ext cx="3206880" cy="3562200"/>
          </a:xfrm>
          <a:prstGeom prst="rect">
            <a:avLst/>
          </a:prstGeom>
          <a:ln w="0">
            <a:noFill/>
          </a:ln>
        </p:spPr>
      </p:pic>
      <p:sp>
        <p:nvSpPr>
          <p:cNvPr id="394" name=""/>
          <p:cNvSpPr txBox="1"/>
          <p:nvPr/>
        </p:nvSpPr>
        <p:spPr>
          <a:xfrm>
            <a:off x="4340160" y="1600200"/>
            <a:ext cx="4346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인조속눈썹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  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 u="sng">
                <a:solidFill>
                  <a:srgbClr val="ffffff"/>
                </a:solidFill>
                <a:uFillTx/>
                <a:latin typeface="HY강B"/>
                <a:ea typeface="HY강B"/>
              </a:rPr>
              <a:t>글루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접착제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   </a:t>
            </a:r>
            <a:r>
              <a:rPr b="0" i="1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아세트산비닐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i="1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수지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로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독성이없어 안전하며 마른후에도 씻어낼수있음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95" name="제목 6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 txBox="1"/>
          <p:nvPr/>
        </p:nvSpPr>
        <p:spPr>
          <a:xfrm>
            <a:off x="4648320" y="1582200"/>
            <a:ext cx="40384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3.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아이참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양면성 테이프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점착제가 발라져 있음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풀이나 고무풀 등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97" name="내용 개체 틀 4" descr="123.jpg"/>
          <p:cNvPicPr/>
          <p:nvPr/>
        </p:nvPicPr>
        <p:blipFill>
          <a:blip r:embed="rId1"/>
          <a:stretch/>
        </p:blipFill>
        <p:spPr>
          <a:xfrm>
            <a:off x="287280" y="2224080"/>
            <a:ext cx="4038480" cy="2735280"/>
          </a:xfrm>
          <a:prstGeom prst="rect">
            <a:avLst/>
          </a:prstGeom>
          <a:ln w="0">
            <a:noFill/>
          </a:ln>
        </p:spPr>
      </p:pic>
      <p:pic>
        <p:nvPicPr>
          <p:cNvPr id="398" name="제목 1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1T12:28:52Z</dcterms:created>
  <dc:creator>sec</dc:creator>
  <dc:description/>
  <dc:language>en-US</dc:language>
  <cp:lastModifiedBy>sec</cp:lastModifiedBy>
  <dcterms:modified xsi:type="dcterms:W3CDTF">2009-12-02T04:33:16Z</dcterms:modified>
  <cp:revision>29</cp:revision>
  <dc:subject/>
  <dc:title>등잔밑이 어둡다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0</vt:r8>
  </property>
</Properties>
</file>